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5C5C-B7C0-4AA1-83DC-47D3B0A01A1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E49C-706D-4A71-B83F-A2D53ED1C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2560"/>
            <a:ext cx="4554720" cy="34164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ustry: Manufacturing (Avi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s): BEA WebLogic® Serv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ner(s): Entigo Corpor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Aerospace Electronic Systems Division had built an  e-commerce site to sell its BendixKing brand products, but the site offered only basic information, and did not permit electronic interaction among pilots and dealers. BEA partner Entigo™ transformed the fledgling BendixKing site into a dynamic, interactive e-commerce portal where its customers - dealers, pilots, and manufacturers -get superior quality and serv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 Customer Relationship Management (CRM) and brand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needed to build loyalty for its BendixKing brand among pilots by making online customer service simple, streamlined, and accelerat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ution: Portal integrated with ordering and dealer network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created a portal for pilots, aviation products dealers, and manufacturers, with greater personalization, flexibility, and reliabil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sul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 its first year, the BendixKing site reduced customer service calls by 3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company booked $20M in orders over the Web site in 2001 and expects to achieve an estimated $40M in 200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ite traffic is up 90% each month, and Honeywell foresees a 20-30% increase in servi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With the robust functionality of the BEA platform, we can focus our efforts where they deliver the best value, which is in business process rather than infrastruc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uch dedication to standards, such as J2EE and XML, helps ensure we are flexible as we move forward with our busines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t's critical to customize the service to your customers… Entigo's customer-profiling module allows us to do that type of customization, and it's one of the big keys to the success of the Entigo/BEA solu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4"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6"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3"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7"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1"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5"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8"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3"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3"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1"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42"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Honeywell</a:t>
            </a:r>
            <a:endParaRPr b="0" lang="en-US" sz="2800" spc="-1" strike="noStrike">
              <a:solidFill>
                <a:srgbClr val="ff0000"/>
              </a:solidFill>
              <a:latin typeface="Arial Black"/>
            </a:endParaRPr>
          </a:p>
        </p:txBody>
      </p:sp>
      <p:sp>
        <p:nvSpPr>
          <p:cNvPr id="87"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rves aviation industry with portal that also increases sa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site will give us the leading edge to stay ahead of the competition… On a scale from one to ten, I rate the BEA/Entigo solution a nine … and I've never given any product a ten.”</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l Sehgal Director, IT/Digitization for Customer Services, Honeywe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chose to partner with BEA because it has a strong record for early adoption and adherence to standards… With the robust functionality of the BEA platform, we can focus our efforts where they deliver the best value, which is in business process rather than </a:t>
            </a:r>
            <a:br>
              <a:rPr sz="2000"/>
            </a:br>
            <a:r>
              <a:rPr b="0" lang="en-US" sz="2000" spc="-1" strike="noStrike">
                <a:solidFill>
                  <a:srgbClr val="000000"/>
                </a:solidFill>
                <a:latin typeface="Arial"/>
              </a:rPr>
              <a:t>infrastructure”</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 Demers, VP of marketing &amp; business </a:t>
            </a:r>
            <a:br>
              <a:rPr sz="1800"/>
            </a:br>
            <a:r>
              <a:rPr b="0" lang="en-US" sz="1800" spc="-1" strike="noStrike">
                <a:solidFill>
                  <a:srgbClr val="000000"/>
                </a:solidFill>
                <a:latin typeface="Arial"/>
              </a:rPr>
              <a:t>development, Entigo</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7594560" y="6172200"/>
            <a:ext cx="1150920" cy="314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Tony Bove</dc:creator>
  <dc:description/>
  <dc:language>en-US</dc:language>
  <cp:lastModifiedBy>Tony Bove</cp:lastModifiedBy>
  <cp:lastPrinted>2001-04-03T20:26:53Z</cp:lastPrinted>
  <dcterms:modified xsi:type="dcterms:W3CDTF">2002-05-22T23:53:35Z</dcterms:modified>
  <cp:revision>1275</cp:revision>
  <dc:subject/>
  <dc:title>Honeywell Customer Overview</dc:title>
</cp:coreProperties>
</file>