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179BD-B2F3-4902-B2B7-0D3F65C52D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857EF-3B81-4A32-BB16-D3EC4C86F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ducts: BEA WebLogic® Server, BEA WebLogic Commerce Server™ and BEA WebLogic Personalization Server™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SS World Medical built the MyPSS portal on BEA WebLogic Server, WebLogic Commerce Server, and WebLogic Personalization Server, providing customers with self-service ordering and shipment tracking, reducing costs, and freeing its sales force to cover more territory and spend more time with each customer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blem: Sales effectivenes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SS World Medical needed to increase sales productivity by adding online ordering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lution: Enterprise porta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MyPSS portal offers personalization to expand revenue opportunities, reduce order-fulfillment costs, and enable medical-supply customers to manage product delivery and inventory more effectively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· MyPSS portal provides customers with self-service ordering and shipment tracking, customized usage reports, and access to same-day product delivery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· The portal offloads much of the time-consuming work of processing low-margin, high-volume order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· Sales associates can focus on capital-equipment sales and relationship building with their large and rapidly expanding clientel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· Deployment expected to take a year was accelerated by 4 month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· "BEA provides us with unbeatable time-to-market, investment protection, personalization and scalability."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· "The BEA WebLogic environment is not only the safe choice, it's the best application server on the market."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2206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2206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2206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2206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2206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2206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312480"/>
            <a:ext cx="6858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2206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480" y="42206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2206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42206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2206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480" y="42206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42206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800" y="42206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1440" y="42206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312480"/>
            <a:ext cx="6858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2206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2206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2206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4360" y="1309680"/>
            <a:ext cx="879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Times New Roman"/>
              </a:rPr>
              <a:t>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</a:t>
            </a:r>
            <a:r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 • •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bea_logo_source_RGB" descr=""/>
          <p:cNvPicPr/>
          <p:nvPr/>
        </p:nvPicPr>
        <p:blipFill>
          <a:blip r:embed="rId2"/>
          <a:stretch/>
        </p:blipFill>
        <p:spPr>
          <a:xfrm>
            <a:off x="7620120" y="279360"/>
            <a:ext cx="1338120" cy="906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41" name=""/>
          <p:cNvSpPr/>
          <p:nvPr/>
        </p:nvSpPr>
        <p:spPr>
          <a:xfrm>
            <a:off x="684360" y="1309680"/>
            <a:ext cx="879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Times New Roman"/>
              </a:rPr>
              <a:t>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</a:t>
            </a:r>
            <a:r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 • •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ea_logo_source_RGB" descr=""/>
          <p:cNvPicPr/>
          <p:nvPr/>
        </p:nvPicPr>
        <p:blipFill>
          <a:blip r:embed="rId2"/>
          <a:stretch/>
        </p:blipFill>
        <p:spPr>
          <a:xfrm>
            <a:off x="7620120" y="279360"/>
            <a:ext cx="1338120" cy="906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BEA Customer: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PSS World Medical </a:t>
            </a: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rom order-taking to building customer relation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e, BEA provides us with unbeatable time-to-market, investment protection, personalization and scalability. But our bottom line — that’s where BEA is really helping… We’re delivering on th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t-com promise where so many medical startups failed; that’s a dramatic demonstration of the power of BEA’s portal framework for established enterprises such as ours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vid Ramsey, Chief Information Officer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S World Med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SS_World_Medical_logo2" descr=""/>
          <p:cNvPicPr/>
          <p:nvPr/>
        </p:nvPicPr>
        <p:blipFill>
          <a:blip r:embed="rId1"/>
          <a:stretch/>
        </p:blipFill>
        <p:spPr>
          <a:xfrm>
            <a:off x="7574040" y="5946840"/>
            <a:ext cx="1514520" cy="780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6T17:29:00Z</dcterms:created>
  <dc:creator>Tony Bove</dc:creator>
  <dc:description/>
  <dc:language>en-US</dc:language>
  <cp:lastModifiedBy>Tony Bove</cp:lastModifiedBy>
  <cp:lastPrinted>2001-04-03T20:26:53Z</cp:lastPrinted>
  <dcterms:modified xsi:type="dcterms:W3CDTF">2002-01-27T22:45:07Z</dcterms:modified>
  <cp:revision>1299</cp:revision>
  <dc:subject/>
  <dc:title>PSS World Medical quote</dc:title>
</cp:coreProperties>
</file>