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1489-E885-4476-AD69-E2F32521D31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move the slide</a:t>
            </a:r>
            <a:endParaRPr b="0" lang="en-US" sz="2800" spc="-1" strike="noStrike">
              <a:solidFill>
                <a:srgbClr val="ff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D80F-6B79-4CD1-99BC-890CCF8C0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2560"/>
            <a:ext cx="4554720" cy="34164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implemented a network re-architecture in order to future-proof and add enormous scalability to its payments infrastructure. Based on BEA Tuxedo, the system is designed to process an unprecedented volume of transactions. Visa worked closely with BEA from the initial architectural assessment all the way through to design and implementation of its new payments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blem: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needed to double the capacity of its transaction networks while maintaining absolut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ution: Reliable transaction platfor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A Tuxedo platform processes an unprecedented volume of transactions with "anytime, anywhere, anyplace" flexibility, while maintaining Visa's standard of 100%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ul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etwork is designed to process more than $1 trillion in payments annu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t can accommodate a volume of 10,000 transactions per second, almost triple its current peak load of 3,500 per seco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is equates to more than 100 billion transactions annually - more than twice the current transaction volu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ts:  Rock-solid 100% reliability - just five minutes of downtime annually could impact $55 million in transactions. Eight hours of down time, equivalent to 99.9% uptime, would mean a potential loss of $5 billion in transa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ynamic load balancing handles unexpectedly high demand, and distributed transaction management ensures data integr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EA Tuxedo integrates seamlessly with legacy mainframe systems, an essential capability in the world of financial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6"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9"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4"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4"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6"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3"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7"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1"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5"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8"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3"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2"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1" name="PlaceHolder 2"/>
          <p:cNvSpPr>
            <a:spLocks noGrp="1"/>
          </p:cNvSpPr>
          <p:nvPr>
            <p:ph type="body"/>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3" name="bea_logo_source_RGB" descr=""/>
          <p:cNvPicPr/>
          <p:nvPr/>
        </p:nvPicPr>
        <p:blipFill>
          <a:blip r:embed="rId2"/>
          <a:stretch/>
        </p:blipFill>
        <p:spPr>
          <a:xfrm>
            <a:off x="7620120" y="279360"/>
            <a:ext cx="133812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1"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42" name="bea_logo_source_RGB" descr=""/>
          <p:cNvPicPr/>
          <p:nvPr/>
        </p:nvPicPr>
        <p:blipFill>
          <a:blip r:embed="rId2"/>
          <a:stretch/>
        </p:blipFill>
        <p:spPr>
          <a:xfrm>
            <a:off x="7620120" y="279360"/>
            <a:ext cx="133812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pic>
        <p:nvPicPr>
          <p:cNvPr id="87" name="" descr=""/>
          <p:cNvPicPr/>
          <p:nvPr/>
        </p:nvPicPr>
        <p:blipFill>
          <a:blip r:embed="rId1"/>
          <a:stretch/>
        </p:blipFill>
        <p:spPr>
          <a:xfrm>
            <a:off x="7613640" y="6026040"/>
            <a:ext cx="1009800" cy="590760"/>
          </a:xfrm>
          <a:prstGeom prst="rect">
            <a:avLst/>
          </a:prstGeom>
          <a:ln w="0">
            <a:noFill/>
          </a:ln>
        </p:spPr>
      </p:pic>
      <p:sp>
        <p:nvSpPr>
          <p:cNvPr id="88"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0,000 transactions/second, </a:t>
            </a:r>
            <a:br>
              <a:rPr sz="2800"/>
            </a:br>
            <a:r>
              <a:rPr b="1" lang="en-US" sz="2800" spc="-1" strike="noStrike">
                <a:solidFill>
                  <a:srgbClr val="ff0000"/>
                </a:solidFill>
                <a:latin typeface="Arial"/>
              </a:rPr>
              <a:t>100 billion transactions/year by 200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nticipating these new payment technologies and the unprecedented volume of transactions they will demand, and keeping in mind the need to uphold Visa’s brand promise of security, reliability, and trust in payment services, we chose to build on BEA. Besides being the most proven and best-of-breed, BEA Tuxedo was the only product that met or exceeded all of our requirem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tt Thompson, Chief Technology Officer, Visa U.S.A.</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29:00Z</dcterms:created>
  <dc:creator>Marc Leon-Guerrero</dc:creator>
  <dc:description/>
  <dc:language>en-US</dc:language>
  <cp:lastModifiedBy>Tony Bove</cp:lastModifiedBy>
  <cp:lastPrinted>2001-04-03T20:26:53Z</cp:lastPrinted>
  <dcterms:modified xsi:type="dcterms:W3CDTF">2002-01-29T02:45:24Z</dcterms:modified>
  <cp:revision>1277</cp:revision>
  <dc:subject/>
  <dc:title>BEA Customer Overview</dc:title>
</cp:coreProperties>
</file>