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58DE-B0C5-4730-A6DD-CABD3B36048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7951-EAD2-4278-ABEB-7B6AE2187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ustry: Media. Product(s): BEA WebLogic® Server. BEA Partners: Accenture, Open Mark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shingtonpost.com (WPNI) built a powerful new service called mywashingtonpost.com - where customers have interactive tools, content, and services personalized to fit their lifestyles - and a revenue-generating employment and recruitment site called WashingtonJobs.c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 Need to build better customer relationships online and expose the breath of WPNI's cont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mier newspaper Web site needed to deploy reliable, personalized services that can scale up to handle millions of visito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lution: Personalization and integration with content manag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 server for integrating content management with personalized applications for mywashingtonpost.com and for deploying services for its recruitment site, WashingtonJobs.c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ul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venues for employment site tripled (relative to 1999) and are expected to see double digit percentage growth in 2001.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age views have increased by 30%, enrollment of new employers is up 20%, and sales of direct job postings through the new Post-a-Job feature are up 50%.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ywashingtonpost.com has driven more than 115,000 registrations, and helped to increase the average length of stay on the s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Deploying applications using BEA platform was less expensive, easier to administer, and allowed for a more tailored online environment than outsourc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efi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infrastructure is scalable to handle peak loads - washingtonpost.com receives more than six million page views on a typical day, and WashingtonJobs.com offers tens of thousands of job listings and receives 10 million page views per mont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ervices are reliable and availab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ntent presentation and management is unified under a single extensible architec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deployment platform supports dynamic content, allows new capabilities to be deployed online rapidly, and provides an enriched, interactive reader experie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50920" y="682560"/>
            <a:ext cx="4554720" cy="34164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ustry: Media. Product(s): BEA WebLogic® Server. BEA Partners: Accenture, Open Mark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shingtonpost.com (WPNI) built a powerful new service called mywashingtonpost.com - where customers have interactive tools, content, and services personalized to fit their lifestyles - and a revenue-generating employment and recruitment site called WashingtonJobs.c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 Need to build better customer relationships online and expose the breath of WPNI's cont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mier newspaper Web site needed to deploy reliable, personalized services that can scale up to handle millions of visito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lution: Personalization and integration with content manag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 server for integrating content management with personalized applications for mywashingtonpost.com and for deploying services for its recruitment site, WashingtonJobs.c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ul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venues for employment site tripled (relative to 1999) and are expected to see double digit percentage growth in 2001.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age views have increased by 30%, enrollment of new employers is up 20%, and sales of direct job postings through the new Post-a-Job feature are up 50%.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ywashingtonpost.com has driven more than 115,000 registrations, and helped to increase the average length of stay on the s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Deploying applications using BEA platform was less expensive, easier to administer, and allowed for a more tailored online environment than outsourc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efi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infrastructure is scalable to handle peak loads - washingtonpost.com receives more than six million page views on a typical day, and WashingtonJobs.com offers tens of thousands of job listings and receives 10 million page views per mont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ervices are reliable and availab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ntent presentation and management is unified under a single extensible architec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deployment platform supports dynamic content, allows new capabilities to be deployed online rapidly, and provides an enriched, interactive reader experie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ashington Post (WNPI) is recognized as America's most trusted source for everything in and about Washington, D.C.  However, in the Internet age, media companies must adopt a new approach to creating content and serving consumers, according to Forrester Research.  At the same time, many online media companies are trying to move away from impression-based advertising to an audience based model and move deeper into the commerce revenue strea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shingtonpost.com, the award-winning news, information and entertainment site, was interested in moving quickly to satisfy customers and create new revenue opportunities by offering new, personalized services. The company had depended on external service providers to introduce application enhancements and fixes, but now wanted to do development in-house with strong technical partn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was to develop a customized page called mywashingtonpost.com, where users have interactive tools, content, and services personalized to fit their lifestyle. The new service would be integrated with the existing content management system and integrate into WPNI's Java-based delivery architecture to better leverage washingtonpost.com's content assets, offer a dynamic user experience, provide interactive tools, and include a registration system to capture a variety of demographic information about washingtonpost.com 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he company needed an employment and recruitment site that simplified and personalized the job hunting and recruiting process by delivering leading search and recruitment tools. Catering to the unique local needs of job seekers and employers, WashingtonJobs.com's goal was to offer tools to manage the job seeker through all phases of their career as well as provide recruiters with a simple, efficient and effective way to locate qualified job candida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omplishing these objectives called for a fast-moving, technologically savvy partner, so WPNI chose Accenture, a BEA Partner to help washingtonpost.com develop and implement these products. Accenture assisted washingtonpost.com in designing, developing, and launching both sites - playing a key role in almost every aspect of the initiatives. Accenture worked closely with the client's development and product teams to identify the key functionality, and define the technology and application architecture. Accenture delivered value throughout the system development lifecycle and was responsible for development, testing, and deployment of the si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shingtonpost.com typically receives more than 6 million page views per day. Since migrating these key systems onto BEA WebLogic Server, washingtonpost.com has had superior platform reliability, with nearly zero downtime, and more than sufficient scalability to handle peak traffic loads that reach into the tens of thousands of concurrent users. The mywashingtonpost.com page is accessible through a single sign-on, and content is based on personal profiles that each reader creates when registering for the serv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facilitate the delivery of personalized content, the BEA-powered service integrates with a content-management system from Open Market, a leader in content management and a BEA Star Partn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s, as well as several smaller applications that are being implemented on BEA, are housed on a cluster of Sun Solaris servers, supported by a series of Oracle databases and iPlanet Web servers. Consultants from Accenture worked closely washingtonpost.com to deliver the new WashingtonJobs.com site in just six months - on time and within budg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deployment, WashingtonJobs.com has become the region's most comprehensive employment resource for both job seekers and employers with tens of thousands of job listings and 10 million page views per mont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enues for WashingtonJobs.com have tripled (relative to 1999) and are expected to see double-digit percentage growth in 2001. Page views have increased by 30 percent, enrollment of new employer customers is up 20 percent, and sales of direct job postings through the new Post-a-Job feature are up 50 percen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6"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9"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4"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5"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7"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2"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6"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9"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4"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2"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1"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3"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1"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42" name="bea_logo_source_RGB" descr=""/>
          <p:cNvPicPr/>
          <p:nvPr/>
        </p:nvPicPr>
        <p:blipFill>
          <a:blip r:embed="rId2"/>
          <a:stretch/>
        </p:blipFill>
        <p:spPr>
          <a:xfrm>
            <a:off x="7620120" y="279360"/>
            <a:ext cx="1338120" cy="90648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349"/>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algn="ctr">
              <a:spcBef>
                <a:spcPts val="349"/>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urth Outline Level</a:t>
            </a:r>
            <a:endParaRPr b="0" i="1" lang="en-US" sz="1400" spc="-1" strike="noStrike">
              <a:solidFill>
                <a:srgbClr val="000000"/>
              </a:solidFill>
              <a:latin typeface="Arial"/>
            </a:endParaRPr>
          </a:p>
          <a:p>
            <a:pPr lvl="4" marL="1828800" algn="ctr">
              <a:spcBef>
                <a:spcPts val="349"/>
              </a:spcBef>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ifth Outline Level</a:t>
            </a:r>
            <a:endParaRPr b="1" i="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xth Outline Level</a:t>
            </a:r>
            <a:endParaRPr b="1" i="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venth Outline Level</a:t>
            </a:r>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Washingtonpost.com slides</a:t>
            </a:r>
            <a:endParaRPr b="0" lang="en-US" sz="2800" spc="-1" strike="noStrike">
              <a:solidFill>
                <a:srgbClr val="ff0000"/>
              </a:solidFill>
              <a:latin typeface="Arial Black"/>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e-slide Summary</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Washingtonpost.com </a:t>
            </a:r>
            <a:endParaRPr b="0" lang="en-US" sz="2800" spc="-1" strike="noStrike">
              <a:solidFill>
                <a:srgbClr val="ff0000"/>
              </a:solidFill>
              <a:latin typeface="Arial Black"/>
            </a:endParaRPr>
          </a:p>
        </p:txBody>
      </p:sp>
      <p:sp>
        <p:nvSpPr>
          <p:cNvPr id="90"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lem:</a:t>
            </a:r>
            <a:r>
              <a:rPr b="0" lang="en-US" sz="2000" spc="-1" strike="noStrike">
                <a:solidFill>
                  <a:srgbClr val="000000"/>
                </a:solidFill>
                <a:latin typeface="Arial"/>
              </a:rPr>
              <a:t> Need to build better customer relationships online </a:t>
            </a:r>
            <a:endParaRPr b="0" lang="en-US" sz="2000" spc="-1" strike="noStrike">
              <a:solidFill>
                <a:srgbClr val="000000"/>
              </a:solidFill>
              <a:latin typeface="Arial"/>
            </a:endParaRPr>
          </a:p>
          <a:p>
            <a:pPr lvl="1" marL="705600" indent="-2714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er newspaper Web site needed to deploy reliable, personalized services that can scale up to handle millions of visitors.</a:t>
            </a:r>
            <a:endParaRPr b="0" lang="en-US" sz="16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 </a:t>
            </a:r>
            <a:r>
              <a:rPr b="0" lang="en-US" sz="2000" spc="-1" strike="noStrike">
                <a:solidFill>
                  <a:srgbClr val="000000"/>
                </a:solidFill>
                <a:latin typeface="Arial"/>
              </a:rPr>
              <a:t>Personalization, integration, &amp; content management</a:t>
            </a:r>
            <a:endParaRPr b="0" lang="en-US" sz="2000" spc="-1" strike="noStrike">
              <a:solidFill>
                <a:srgbClr val="000000"/>
              </a:solidFill>
              <a:latin typeface="Arial"/>
            </a:endParaRPr>
          </a:p>
          <a:p>
            <a:pPr lvl="1" marL="705600" indent="-2714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ng content management with personalized applications for mywashingtonpost.com </a:t>
            </a:r>
            <a:endParaRPr b="0" lang="en-US" sz="1600" spc="-1" strike="noStrike">
              <a:solidFill>
                <a:srgbClr val="000000"/>
              </a:solidFill>
              <a:latin typeface="Arial"/>
            </a:endParaRPr>
          </a:p>
          <a:p>
            <a:pPr lvl="1" marL="705600" indent="-2714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ing services for its recruitment site, WashingtonJobs.com</a:t>
            </a:r>
            <a:endParaRPr b="0" lang="en-US" sz="1600" spc="-1" strike="noStrike">
              <a:solidFill>
                <a:srgbClr val="000000"/>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sults:</a:t>
            </a:r>
            <a:r>
              <a:rPr b="0" lang="en-US" sz="2000" spc="-1" strike="noStrike">
                <a:solidFill>
                  <a:srgbClr val="000000"/>
                </a:solidFill>
                <a:latin typeface="Arial"/>
              </a:rPr>
              <a:t> Increased revenues and better customer relations</a:t>
            </a:r>
            <a:endParaRPr b="0" lang="en-US" sz="20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for employment site tripled.</a:t>
            </a:r>
            <a:endParaRPr b="0" lang="en-US" sz="16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views increased 30%, enrollment of new employers up 20%, and sales of direct job postings up 50%</a:t>
            </a:r>
            <a:endParaRPr b="0" lang="en-US" sz="16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washingtonpost.com has driven more than 115,000 registrations</a:t>
            </a:r>
            <a:endParaRPr b="0" lang="en-US" sz="16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nefits:</a:t>
            </a:r>
            <a:r>
              <a:rPr b="0" lang="en-US" sz="2000" spc="-1" strike="noStrike">
                <a:solidFill>
                  <a:srgbClr val="000000"/>
                </a:solidFill>
                <a:latin typeface="Arial"/>
              </a:rPr>
              <a:t> Reliable, extensible</a:t>
            </a:r>
            <a:endParaRPr b="0" lang="en-US" sz="20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s peak loads of more than 6M page views per day on washingtonpost, 10M page views per month on washingtonjobs</a:t>
            </a:r>
            <a:endParaRPr b="0" lang="en-US" sz="16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ation and management is unified under a </a:t>
            </a:r>
            <a:br>
              <a:rPr sz="1600"/>
            </a:br>
            <a:r>
              <a:rPr b="0" lang="en-US" sz="1600" spc="-1" strike="noStrike">
                <a:solidFill>
                  <a:srgbClr val="000000"/>
                </a:solidFill>
                <a:latin typeface="Arial"/>
              </a:rPr>
              <a:t>single extensible architecture</a:t>
            </a:r>
            <a:endParaRPr b="0" lang="en-US" sz="1600" spc="-1" strike="noStrike">
              <a:solidFill>
                <a:srgbClr val="000000"/>
              </a:solidFill>
              <a:latin typeface="Arial"/>
            </a:endParaRPr>
          </a:p>
        </p:txBody>
      </p:sp>
      <p:pic>
        <p:nvPicPr>
          <p:cNvPr id="91" name="washingtonpost_com_logo" descr=""/>
          <p:cNvPicPr/>
          <p:nvPr/>
        </p:nvPicPr>
        <p:blipFill>
          <a:blip r:embed="rId1"/>
          <a:stretch/>
        </p:blipFill>
        <p:spPr>
          <a:xfrm>
            <a:off x="7477200" y="6508800"/>
            <a:ext cx="1552680" cy="20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Washingtonpost.com slides</a:t>
            </a:r>
            <a:endParaRPr b="0" lang="en-US" sz="2800" spc="-1" strike="noStrike">
              <a:solidFill>
                <a:srgbClr val="ff0000"/>
              </a:solidFill>
              <a:latin typeface="Arial Black"/>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of point and quot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Washingtonpost.com </a:t>
            </a:r>
            <a:endParaRPr b="0" lang="en-US" sz="2800" spc="-1" strike="noStrike">
              <a:solidFill>
                <a:srgbClr val="ff0000"/>
              </a:solidFill>
              <a:latin typeface="Arial Black"/>
            </a:endParaRPr>
          </a:p>
        </p:txBody>
      </p:sp>
      <p:sp>
        <p:nvSpPr>
          <p:cNvPr id="95"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vides job opportunities and personalized new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bLogic gives us the building blocks that accelerate the delivery of new applications, enable the presentation of dynamic content, lower administration and management costs, and integrate with our legacy systems and third-party applications... The BEA platform has been a huge plus for us. It has allowed us to build systems with a functionality that we previously could not afford. But even more important than the cost, is the increased functionality that BEA provides. The strength of its Java implementation shortens delivery of new applications substantially and plays an important role in enabling us to provide a more personalized user experi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ic Schvimmer, VP of Techn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post.com</a:t>
            </a:r>
            <a:endParaRPr b="0" lang="en-US" sz="1800" spc="-1" strike="noStrike">
              <a:solidFill>
                <a:srgbClr val="000000"/>
              </a:solidFill>
              <a:latin typeface="Times New Roman"/>
            </a:endParaRPr>
          </a:p>
        </p:txBody>
      </p:sp>
      <p:pic>
        <p:nvPicPr>
          <p:cNvPr id="96" name="washingtonpost_com_logo" descr=""/>
          <p:cNvPicPr/>
          <p:nvPr/>
        </p:nvPicPr>
        <p:blipFill>
          <a:blip r:embed="rId1"/>
          <a:stretch/>
        </p:blipFill>
        <p:spPr>
          <a:xfrm>
            <a:off x="7477200" y="6508800"/>
            <a:ext cx="1552680" cy="20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Washingtonpost.com slides</a:t>
            </a:r>
            <a:endParaRPr b="0" lang="en-US" sz="2800" spc="-1" strike="noStrike">
              <a:solidFill>
                <a:srgbClr val="ff0000"/>
              </a:solidFill>
              <a:latin typeface="Arial Black"/>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etailed overview</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Washingtonpost.com </a:t>
            </a:r>
            <a:endParaRPr b="0" lang="en-US" sz="2800" spc="-1" strike="noStrike">
              <a:solidFill>
                <a:srgbClr val="ff0000"/>
              </a:solidFill>
              <a:latin typeface="Arial Black"/>
            </a:endParaRPr>
          </a:p>
        </p:txBody>
      </p:sp>
      <p:sp>
        <p:nvSpPr>
          <p:cNvPr id="100"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 Post: America's most trusted source for everything in and about Washington, D.C</a:t>
            </a:r>
            <a:endParaRPr b="0" lang="en-US" sz="2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companies must provide </a:t>
            </a:r>
            <a:br>
              <a:rPr sz="2000"/>
            </a:br>
            <a:r>
              <a:rPr b="0" lang="en-US" sz="2000" spc="-1" strike="noStrike">
                <a:solidFill>
                  <a:srgbClr val="000000"/>
                </a:solidFill>
                <a:latin typeface="Arial"/>
              </a:rPr>
              <a:t>content and serve consumers online</a:t>
            </a:r>
            <a:endParaRPr b="0" lang="en-US" sz="20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a:t>
            </a:r>
            <a:endParaRPr b="0" lang="en-US" sz="1800" spc="-1" strike="noStrike">
              <a:solidFill>
                <a:srgbClr val="000000"/>
              </a:solidFill>
              <a:latin typeface="Arial"/>
            </a:endParaRPr>
          </a:p>
          <a:p>
            <a:pPr lvl="1" marL="743040" indent="-2858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washingtonpost.com where users </a:t>
            </a:r>
            <a:br>
              <a:rPr sz="1600"/>
            </a:br>
            <a:r>
              <a:rPr b="0" lang="en-US" sz="1600" spc="-1" strike="noStrike">
                <a:solidFill>
                  <a:srgbClr val="000000"/>
                </a:solidFill>
                <a:latin typeface="Arial"/>
              </a:rPr>
              <a:t>have tools, content, and services </a:t>
            </a:r>
            <a:br>
              <a:rPr sz="1600"/>
            </a:br>
            <a:r>
              <a:rPr b="0" lang="en-US" sz="1600" spc="-1" strike="noStrike">
                <a:solidFill>
                  <a:srgbClr val="000000"/>
                </a:solidFill>
                <a:latin typeface="Arial"/>
              </a:rPr>
              <a:t>personalized to fit their lifestyle</a:t>
            </a:r>
            <a:endParaRPr b="0" lang="en-US" sz="1600" spc="-1" strike="noStrike">
              <a:solidFill>
                <a:srgbClr val="000000"/>
              </a:solidFill>
              <a:latin typeface="Arial"/>
            </a:endParaRPr>
          </a:p>
          <a:p>
            <a:pPr lvl="1" marL="743040" indent="-2858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ingtonjobs.com, an employment </a:t>
            </a:r>
            <a:br>
              <a:rPr sz="1600"/>
            </a:br>
            <a:r>
              <a:rPr b="0" lang="en-US" sz="1600" spc="-1" strike="noStrike">
                <a:solidFill>
                  <a:srgbClr val="000000"/>
                </a:solidFill>
                <a:latin typeface="Arial"/>
              </a:rPr>
              <a:t>and recruitment site that simplifies and </a:t>
            </a:r>
            <a:br>
              <a:rPr sz="1600"/>
            </a:br>
            <a:r>
              <a:rPr b="0" lang="en-US" sz="1600" spc="-1" strike="noStrike">
                <a:solidFill>
                  <a:srgbClr val="000000"/>
                </a:solidFill>
                <a:latin typeface="Arial"/>
              </a:rPr>
              <a:t>personalizes job hunting and recruiting</a:t>
            </a:r>
            <a:endParaRPr b="0" lang="en-US" sz="1600" spc="-1" strike="noStrike">
              <a:solidFill>
                <a:srgbClr val="000000"/>
              </a:solidFill>
              <a:latin typeface="Arial"/>
            </a:endParaRPr>
          </a:p>
          <a:p>
            <a:pPr lvl="1" marL="743040" indent="-2858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integrated with the existing </a:t>
            </a:r>
            <a:br>
              <a:rPr sz="1600"/>
            </a:br>
            <a:r>
              <a:rPr b="0" lang="en-US" sz="1600" spc="-1" strike="noStrike">
                <a:solidFill>
                  <a:srgbClr val="000000"/>
                </a:solidFill>
                <a:latin typeface="Arial"/>
              </a:rPr>
              <a:t>content management system and with Java-based delivery architecture </a:t>
            </a:r>
            <a:endParaRPr b="0" lang="en-US" sz="1600" spc="-1" strike="noStrike">
              <a:solidFill>
                <a:srgbClr val="000000"/>
              </a:solidFill>
              <a:latin typeface="Arial"/>
            </a:endParaRPr>
          </a:p>
          <a:p>
            <a:pPr lvl="1" marL="743040" indent="-2858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er a dynamic user experience, provide interactive tools, and include a registration system to capture demographic information </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washingtonpost_com_logo" descr=""/>
          <p:cNvPicPr/>
          <p:nvPr/>
        </p:nvPicPr>
        <p:blipFill>
          <a:blip r:embed="rId1"/>
          <a:stretch/>
        </p:blipFill>
        <p:spPr>
          <a:xfrm>
            <a:off x="7477200" y="6508800"/>
            <a:ext cx="1552680" cy="209520"/>
          </a:xfrm>
          <a:prstGeom prst="rect">
            <a:avLst/>
          </a:prstGeom>
          <a:ln w="0">
            <a:noFill/>
          </a:ln>
        </p:spPr>
      </p:pic>
      <p:pic>
        <p:nvPicPr>
          <p:cNvPr id="102" name="washingtonpost" descr=""/>
          <p:cNvPicPr/>
          <p:nvPr/>
        </p:nvPicPr>
        <p:blipFill>
          <a:blip r:embed="rId2"/>
          <a:stretch/>
        </p:blipFill>
        <p:spPr>
          <a:xfrm>
            <a:off x="5423040" y="2558880"/>
            <a:ext cx="3555720" cy="2471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Washingtonpost.com </a:t>
            </a:r>
            <a:endParaRPr b="0" lang="en-US" sz="2800" spc="-1" strike="noStrike">
              <a:solidFill>
                <a:srgbClr val="ff0000"/>
              </a:solidFill>
              <a:latin typeface="Arial Black"/>
            </a:endParaRPr>
          </a:p>
        </p:txBody>
      </p:sp>
      <p:sp>
        <p:nvSpPr>
          <p:cNvPr id="104" name="PlaceHolder 2"/>
          <p:cNvSpPr>
            <a:spLocks noGrp="1"/>
          </p:cNvSpPr>
          <p:nvPr>
            <p:ph/>
          </p:nvPr>
        </p:nvSpPr>
        <p:spPr>
          <a:xfrm>
            <a:off x="685440" y="1752480"/>
            <a:ext cx="6978600" cy="4724640"/>
          </a:xfrm>
          <a:prstGeom prst="rect">
            <a:avLst/>
          </a:prstGeom>
          <a:noFill/>
          <a:ln w="0">
            <a:noFill/>
          </a:ln>
        </p:spPr>
        <p:txBody>
          <a:bodyPr lIns="90000" rIns="90000" tIns="46800" bIns="46800" anchor="t">
            <a:normAutofit fontScale="95000"/>
          </a:bodyPr>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nefits of the BEA Platform:</a:t>
            </a:r>
            <a:endParaRPr b="0" lang="en-US" sz="2400" spc="-1" strike="noStrike">
              <a:solidFill>
                <a:srgbClr val="000000"/>
              </a:solidFill>
              <a:latin typeface="Arial"/>
            </a:endParaRPr>
          </a:p>
          <a:p>
            <a:pPr marL="325800" indent="-3258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a:t>
            </a:r>
            <a:endParaRPr b="0" lang="en-US" sz="20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s peak loads of more than 6M page views per day on washingtonpost, 10M page views per month on washingtonjobs</a:t>
            </a:r>
            <a:endParaRPr b="0" lang="en-US" sz="16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 are reliable and available.</a:t>
            </a:r>
            <a:endParaRPr b="0" lang="en-US" sz="1600" spc="-1" strike="noStrike">
              <a:solidFill>
                <a:srgbClr val="000000"/>
              </a:solidFill>
              <a:latin typeface="Arial"/>
            </a:endParaRPr>
          </a:p>
          <a:p>
            <a:pPr marL="325800" indent="-3258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ility</a:t>
            </a:r>
            <a:endParaRPr b="0" lang="en-US" sz="20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ation and management is unified under a </a:t>
            </a:r>
            <a:br>
              <a:rPr sz="1600"/>
            </a:br>
            <a:r>
              <a:rPr b="0" lang="en-US" sz="1600" spc="-1" strike="noStrike">
                <a:solidFill>
                  <a:srgbClr val="000000"/>
                </a:solidFill>
                <a:latin typeface="Arial"/>
              </a:rPr>
              <a:t>single extensible architecture</a:t>
            </a:r>
            <a:endParaRPr b="0" lang="en-US" sz="16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ment platform supports dynamic content, allows new capabilities to be deployed online rapidly, and provides an enriched, interactive reader experience.</a:t>
            </a:r>
            <a:endParaRPr b="0" lang="en-US" sz="1600" spc="-1" strike="noStrike">
              <a:solidFill>
                <a:srgbClr val="000000"/>
              </a:solidFill>
              <a:latin typeface="Arial"/>
            </a:endParaRPr>
          </a:p>
          <a:p>
            <a:pPr marL="325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for employment site tripled.</a:t>
            </a:r>
            <a:endParaRPr b="0" lang="en-US" sz="16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views increased 30%, enrollment of new employers up 20%, and sales of direct job postings up 50%</a:t>
            </a:r>
            <a:endParaRPr b="0" lang="en-US" sz="1600" spc="-1" strike="noStrike">
              <a:solidFill>
                <a:srgbClr val="000000"/>
              </a:solidFill>
              <a:latin typeface="Arial"/>
            </a:endParaRPr>
          </a:p>
          <a:p>
            <a:pPr lvl="1" marL="705600" indent="-2714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washingtonpost.com has driven more than 115,000 </a:t>
            </a:r>
            <a:br>
              <a:rPr sz="1600"/>
            </a:br>
            <a:r>
              <a:rPr b="0" lang="en-US" sz="1600" spc="-1" strike="noStrike">
                <a:solidFill>
                  <a:srgbClr val="000000"/>
                </a:solidFill>
                <a:latin typeface="Arial"/>
              </a:rPr>
              <a:t>registrations</a:t>
            </a:r>
            <a:endParaRPr b="0" lang="en-US" sz="1600" spc="-1" strike="noStrike">
              <a:solidFill>
                <a:srgbClr val="000000"/>
              </a:solidFill>
              <a:latin typeface="Arial"/>
            </a:endParaRPr>
          </a:p>
        </p:txBody>
      </p:sp>
      <p:pic>
        <p:nvPicPr>
          <p:cNvPr id="105" name="washingtonpost_com_logo" descr=""/>
          <p:cNvPicPr/>
          <p:nvPr/>
        </p:nvPicPr>
        <p:blipFill>
          <a:blip r:embed="rId1"/>
          <a:stretch/>
        </p:blipFill>
        <p:spPr>
          <a:xfrm>
            <a:off x="7477200" y="6508800"/>
            <a:ext cx="1552680" cy="209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Tony Bove</dc:creator>
  <dc:description/>
  <dc:language>en-US</dc:language>
  <cp:lastModifiedBy>Tony Bove</cp:lastModifiedBy>
  <cp:lastPrinted>2001-04-03T20:26:53Z</cp:lastPrinted>
  <dcterms:modified xsi:type="dcterms:W3CDTF">2002-02-08T23:25:29Z</dcterms:modified>
  <cp:revision>1309</cp:revision>
  <dc:subject/>
  <dc:title>Washingtonpost.com Overview</dc:title>
</cp:coreProperties>
</file>